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95ED-7C1C-4B24-A526-82904119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E590-F824-4CDD-B3B1-EC422182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CA40-3AB2-49AF-BA5F-6293277A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35F8-B695-4201-8E7E-927010F1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40BD-231B-4204-9A2C-DC7A9A1E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76F5-6A57-43CA-9D8C-7D01B6C6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D945-337E-4DD7-B138-29A108D3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8872-1D62-4A97-BB5F-886DD0D4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E1AC-5EF4-4373-91E4-B3868582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146F-DA0C-4790-A3E2-C12FF01C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5E1C-3BA5-434E-B040-BC5A2C5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68F8-0008-492F-8ED4-848236E6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1FD8-403D-40DB-AEDE-3B2C2ADE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FBF6-DAE4-4DF3-BDF8-D88CC60A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E302-6F09-4A61-8907-6EF3426D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D33C-88FB-4AF2-98B4-8AFC8A12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0FA9-62D2-44EA-9285-705D7DBF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1169D-536F-4288-B468-3F013B4D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1E2C-E3C7-4ECD-9F09-FE1D3054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7D0B-48E6-41E5-9F4F-E1EBD823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CE1D-E084-4D7F-9266-C8D1713F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C16A-CFF9-4ABB-A7B9-FE331BF5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6E35F-70C5-4FFF-A2E1-8F0B665F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15C4-C69D-425C-BE63-722976B7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C43-2E94-4A11-A0B1-F211E0D442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D5EE-574C-4B3E-AEBD-99A898405C5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gersonfachiano@yahoo.com.br" TargetMode="External"/><Relationship Id="rId2" Type="http://schemas.openxmlformats.org/officeDocument/2006/relationships/hyperlink" Target="mailto:gersonfachiano@hotmail.com" TargetMode="External"/><Relationship Id="rId3" Type="http://schemas.openxmlformats.org/officeDocument/2006/relationships/hyperlink" Target="http://www.twitter.com/gersonfachiano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nQxRObYdD0U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104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e8ba"/>
                </a:solidFill>
                <a:latin typeface="Garamond"/>
              </a:rPr>
              <a:t>APRENDIZAGEM INTERATIVO-VIRTUAL: EXPERIMENO EM CONTEÚDOS DE LÍNGUA INGLESA 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. STE Gerson Fachi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íodo: Notu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cola Estadual Senador Filinto Mul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inhema - 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RESULTADOS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Utilizando o PRAL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2" name="Content Placeholder 3" descr="S630002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4" name="Content Placeholder 3" descr="S630002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Prof. Rose Mazzaro acompanhando o aprendizado da turma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6" name="Content Placeholder 3" descr="S630002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28" name="Content Placeholder 3" descr="S630002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Utilização do Xtranormal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0" name="Content Placeholder 3" descr="S630004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2" name="Content Placeholder 3" descr="S630003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Os alunos escolhendo as personagens de seu vídeo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4" name="Content Placeholder 3" descr="S630004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Trocando idéias com os colegas para elaboração do vídeo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6" name="Content Placeholder 3" descr="S630004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Auxílio à galera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38" name="Content Placeholder 3" descr="S630004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Público-Alvo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e projeto está sendo executado com a professora de Língua Inglesa Roseli Mazzaro e aos discentes do terceiro ano do ensino médio notur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Alunos atentos à explicação da professora Rose.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40" name="Content Placeholder 3" descr="S630004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e8ba"/>
                </a:solidFill>
                <a:latin typeface="Garamond"/>
              </a:rPr>
              <a:t>Some New? Filme produzido pelos alunos.</a:t>
            </a:r>
            <a:br>
              <a:rPr sz="3200"/>
            </a:br>
            <a:r>
              <a:rPr b="0" lang="pt-BR" sz="2000" spc="-1" strike="noStrike">
                <a:solidFill>
                  <a:srgbClr val="bae8ba"/>
                </a:solidFill>
                <a:latin typeface="Garamond"/>
              </a:rPr>
              <a:t>http://www.youtube.com/watch?v=u_7fsT0r1m8</a:t>
            </a:r>
            <a:r>
              <a:rPr b="1" lang="pt-BR" sz="2000" spc="-1" strike="noStrike">
                <a:solidFill>
                  <a:srgbClr val="bae8ba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bae8ba"/>
              </a:solidFill>
              <a:latin typeface="Garamond"/>
            </a:endParaRPr>
          </a:p>
        </p:txBody>
      </p:sp>
      <p:pic>
        <p:nvPicPr>
          <p:cNvPr id="142" name="Some New.wmv" descr=""/>
          <p:cNvPicPr/>
          <p:nvPr/>
        </p:nvPicPr>
        <p:blipFill>
          <a:blip r:embed="rId1"/>
          <a:stretch/>
        </p:blipFill>
        <p:spPr>
          <a:xfrm>
            <a:off x="2286000" y="21477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Grato!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-mail: </a:t>
            </a:r>
            <a:r>
              <a:rPr b="0" lang="en-US" sz="2800" spc="-1" strike="noStrike" u="sng">
                <a:solidFill>
                  <a:srgbClr val="99ff33"/>
                </a:solidFill>
                <a:uFillTx/>
                <a:latin typeface="Garamond"/>
                <a:hlinkClick r:id="rId1"/>
              </a:rPr>
              <a:t>gersonfachiano@yahoo.com.b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SN: </a:t>
            </a:r>
            <a:r>
              <a:rPr b="0" lang="en-US" sz="2800" spc="-1" strike="noStrike" u="sng">
                <a:solidFill>
                  <a:srgbClr val="99ff33"/>
                </a:solidFill>
                <a:uFillTx/>
                <a:latin typeface="Garamond"/>
                <a:hlinkClick r:id="rId2"/>
              </a:rPr>
              <a:t>gersonfachiano@hotmail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tter: </a:t>
            </a:r>
            <a:r>
              <a:rPr b="0" lang="en-US" sz="2800" spc="-1" strike="noStrike" u="sng">
                <a:solidFill>
                  <a:srgbClr val="99ff33"/>
                </a:solidFill>
                <a:uFillTx/>
                <a:latin typeface="Garamond"/>
                <a:hlinkClick r:id="rId3"/>
              </a:rPr>
              <a:t>www.twitter.com/gersonfachi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OBJETIVOS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Este trabalho tem por objetivo capacitar docente e discientes para utilizarem ferramentas digitais no processo de ensino-aprendizagem de Língua Inglesa (LI) potencializando o ensino do mesmo através da utilização de plataformas digitais da WEB 2.0 (PRAL e XTranormal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JUSTIFICATIV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tindo da realidade de hoje, em que muitos professores não têm uma idéia exata de como se processa o aprendizado com a utilização das novas tecnologias disponíveis ao docente, este trabalho se destina a todo leitor interessado em conhecer uma das muitas faces dessa tecnologia aplicada à</a:t>
            </a: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educacional, ou seja, as várias possibilidades de como ensinar e aprender uma segunda língua empregando as T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FERRAMENTAS DIGITAIS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Foram escolhidas duas ferramentas digitais: a primeira é o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PR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. O </a:t>
            </a:r>
            <a:r>
              <a:rPr b="0" i="1" lang="pt-BR" sz="2800" spc="-1" strike="noStrike">
                <a:solidFill>
                  <a:srgbClr val="ffffff"/>
                </a:solidFill>
                <a:latin typeface="Garamond"/>
              </a:rPr>
              <a:t>PR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é um portal de relacionamento educacional que possibilita estudantes e professores interagirem por meio de diversas ferramentas, possibilitando assim, uma maior interatividade com o grupo. A segunda ferramenta digital que será trabalhada é o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XTranorm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que é uma nova ferramenta para a criação de animações 3D como dramas, comédias e o que mais você quiser que os atores faç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METODOLOGI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tap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rofessora de línguas passou por uma capacitação que abordou todas as formas de utilização do PRAL criando-se nesta ocasião a página da docente. Em seguida, houve a capacitação quanto aos recursos da ferramenta digital Xtranorm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304920" y="5335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ágina da Profa. Rose Mazzaro. Realizada na capacitaçã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C:\Users\user\Desktop\fotos PRAL\pral rose.jpg"/>
          <p:cNvPicPr/>
          <p:nvPr/>
        </p:nvPicPr>
        <p:blipFill>
          <a:blip r:embed="rId1"/>
          <a:stretch/>
        </p:blipFill>
        <p:spPr>
          <a:xfrm>
            <a:off x="237960" y="1066680"/>
            <a:ext cx="867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CRIANDO O FILME xtranormal"/>
          <p:cNvPicPr/>
          <p:nvPr/>
        </p:nvPicPr>
        <p:blipFill>
          <a:blip r:embed="rId1"/>
          <a:stretch/>
        </p:blipFill>
        <p:spPr>
          <a:xfrm>
            <a:off x="152280" y="1563840"/>
            <a:ext cx="8839440" cy="3998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28600" y="5475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azendo o filme com a professora Rose na capacitaçã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5867280"/>
            <a:ext cx="5715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99ff33"/>
                </a:solidFill>
                <a:uFillTx/>
                <a:latin typeface="Garamond"/>
                <a:hlinkClick r:id="rId2"/>
              </a:rPr>
              <a:t>http://www.youtube.com/watch?v=nQxRObYdD0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2</a:t>
            </a:r>
            <a:r>
              <a:rPr b="1" lang="en-US" sz="4400" spc="-1" strike="noStrike" baseline="30000">
                <a:solidFill>
                  <a:srgbClr val="bae8ba"/>
                </a:solidFill>
                <a:latin typeface="Garamond"/>
              </a:rPr>
              <a:t>a</a:t>
            </a: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 ETAP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resentação e cadastro dos discentes à plataforma PRAL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ção com os recursos do ambiente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esso aos conteúdos e as atividades postados pela professora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aboração de um roteiro aplicando o conteúdo aprendido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ação do filme utilizando o site Xtranormal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8:05:37Z</dcterms:created>
  <dc:creator>user</dc:creator>
  <dc:description/>
  <dc:language>en-US</dc:language>
  <cp:lastModifiedBy>MicroCarla</cp:lastModifiedBy>
  <dcterms:modified xsi:type="dcterms:W3CDTF">2009-08-13T20:34:34Z</dcterms:modified>
  <cp:revision>66</cp:revision>
  <dc:subject/>
  <dc:title>PROFESSOR FORMANDO PROFESSOR</dc:title>
</cp:coreProperties>
</file>